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740-848E-41A8-ACE5-AE2FD1AC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D35-F569-4752-B264-F0A944A6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B68-27D6-49E0-A258-415946FC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54E-7839-4805-8E6D-5233030A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165-7784-4557-BD1A-C111608B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363-5826-41F3-AE80-22D3CED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08E-F005-4BD3-BE7A-C979E3D1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985-95D4-407E-A006-F1128A24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3A3-309F-4F52-8E1C-3080EF62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03F-2A05-4744-9965-0987C0D0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84B-DA44-4E3B-BF02-C081215F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4AC-7AC6-4306-B290-29CC9E56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288167F-0141-4833-8461-80A9B0288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preadsheets.google.com/ccc?key=pINNryLt_vyDiPyHj11WiDg&amp;hl=en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linical Observations Interoperability (COI):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ow can Semantic Web Technologies Help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pul Kashya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vkashyap1@partner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edical Informatician, Clinical Informatics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 Healthcar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Observations Interoperability Sess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SIG Face to 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8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nowledgments: Members of the HCLSIG/COI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hareable Open Source Models of Clinical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" y="220968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7480" y="304812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933840" y="38037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7480" y="4572000"/>
            <a:ext cx="224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6480" y="1860480"/>
            <a:ext cx="121536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15200" y="198612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82420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7982280" y="358020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15560" y="4348080"/>
            <a:ext cx="167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666880" y="3060720"/>
            <a:ext cx="1676520" cy="824040"/>
            <a:chOff x="2666880" y="3060720"/>
            <a:chExt cx="1676520" cy="824040"/>
          </a:xfrm>
        </p:grpSpPr>
        <p:sp>
          <p:nvSpPr>
            <p:cNvPr id="296" name=""/>
            <p:cNvSpPr/>
            <p:nvPr/>
          </p:nvSpPr>
          <p:spPr>
            <a:xfrm>
              <a:off x="2666880" y="327672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74320" y="306072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715000" y="3213000"/>
            <a:ext cx="1676520" cy="824040"/>
            <a:chOff x="5715000" y="3213000"/>
            <a:chExt cx="1676520" cy="824040"/>
          </a:xfrm>
        </p:grpSpPr>
        <p:sp>
          <p:nvSpPr>
            <p:cNvPr id="299" name=""/>
            <p:cNvSpPr/>
            <p:nvPr/>
          </p:nvSpPr>
          <p:spPr>
            <a:xfrm>
              <a:off x="5715000" y="342900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22440" y="321300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08240" y="6095880"/>
            <a:ext cx="418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Focus of Talk by Tom On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Re-use and Alignment of Independently developed Industry Standard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880" y="1295280"/>
            <a:ext cx="37242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C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ubClass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ke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SnomedCodeForSystolic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magnitude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[&gt;= 0.0, &lt;= 220.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unit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HL7:PQ: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30880" y="1219320"/>
            <a:ext cx="31251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DT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VS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TESTCD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VSORRESU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200400"/>
            <a:ext cx="8229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Alignment/Mapp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SystolicBloodPressureMeasurement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DTM:VSTEST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TESTCD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ke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SDTM:VSTEST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unit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ORR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magnitude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SOR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DTM:SYSBP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nomedCodeForSystolicBP”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HL7:PQ:mmHg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ORRESU: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2863800"/>
            <a:ext cx="152388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028840" y="2787480"/>
            <a:ext cx="1523880" cy="48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3276720"/>
            <a:ext cx="830592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Enabling Clinical Observations Interoperability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888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76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056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66280" y="260496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895480"/>
            <a:ext cx="106704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016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447920"/>
            <a:ext cx="42674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0200" y="463392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5600" y="152388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68560" y="20718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0320" y="350532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12320" y="3962520"/>
            <a:ext cx="2462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nomedCodeForSystolic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6000" y="4114800"/>
            <a:ext cx="743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38080" y="31240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42640" y="31240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79640" y="3414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2960" y="32767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5880" y="3657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8360" y="342900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0492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744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0660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61960" y="260496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2895480"/>
            <a:ext cx="106668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620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1447920"/>
            <a:ext cx="42670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98400" y="46339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nical Trial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01280" y="152388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64240" y="20718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6360" y="350532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06560" y="3962520"/>
            <a:ext cx="1985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CITCodeForSYS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42040" y="4114800"/>
            <a:ext cx="743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34120" y="312408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312408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38320" y="31240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75680" y="3414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11520" y="32767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OR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3720" y="365760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ORRE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84760" y="34290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TEST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3200400"/>
            <a:ext cx="4343400" cy="152280"/>
          </a:xfrm>
          <a:custGeom>
            <a:avLst/>
            <a:gdLst/>
            <a:ahLst/>
            <a:rect l="l" t="t" r="r" b="b"/>
            <a:pathLst>
              <a:path w="2592" h="312">
                <a:moveTo>
                  <a:pt x="0" y="312"/>
                </a:moveTo>
                <a:cubicBezTo>
                  <a:pt x="744" y="180"/>
                  <a:pt x="1488" y="48"/>
                  <a:pt x="1920" y="24"/>
                </a:cubicBezTo>
                <a:cubicBezTo>
                  <a:pt x="2352" y="0"/>
                  <a:pt x="2472" y="84"/>
                  <a:pt x="2592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3657600"/>
            <a:ext cx="3962520" cy="533520"/>
          </a:xfrm>
          <a:custGeom>
            <a:avLst/>
            <a:gdLst/>
            <a:ahLst/>
            <a:rect l="l" t="t" r="r" b="b"/>
            <a:pathLst>
              <a:path w="2496" h="336">
                <a:moveTo>
                  <a:pt x="0" y="288"/>
                </a:moveTo>
                <a:cubicBezTo>
                  <a:pt x="92" y="188"/>
                  <a:pt x="184" y="88"/>
                  <a:pt x="480" y="48"/>
                </a:cubicBezTo>
                <a:cubicBezTo>
                  <a:pt x="776" y="8"/>
                  <a:pt x="1440" y="0"/>
                  <a:pt x="1776" y="48"/>
                </a:cubicBezTo>
                <a:cubicBezTo>
                  <a:pt x="2112" y="96"/>
                  <a:pt x="2304" y="216"/>
                  <a:pt x="2496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4267080"/>
            <a:ext cx="3644640" cy="457200"/>
          </a:xfrm>
          <a:custGeom>
            <a:avLst/>
            <a:gdLst/>
            <a:ahLst/>
            <a:rect l="l" t="t" r="r" b="b"/>
            <a:pathLst>
              <a:path w="2296" h="288">
                <a:moveTo>
                  <a:pt x="0" y="0"/>
                </a:moveTo>
                <a:cubicBezTo>
                  <a:pt x="772" y="144"/>
                  <a:pt x="1544" y="288"/>
                  <a:pt x="1920" y="288"/>
                </a:cubicBezTo>
                <a:cubicBezTo>
                  <a:pt x="2296" y="288"/>
                  <a:pt x="2276" y="14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Enabling Clinical Observations Interoperability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888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176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56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63080" y="416412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95280" y="24382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016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02400" y="308304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92640" y="340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65720" y="36306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67920" y="548640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140000" y="468324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71240" y="222408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0920" y="11430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1461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73880" y="169056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53920" y="342900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248160" y="27428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84960" y="3033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2057400"/>
            <a:ext cx="1143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82280" y="1143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Hg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1720" y="1143000"/>
            <a:ext cx="1924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CITCodeForSYSB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14479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9056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352680" y="228600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2438280"/>
            <a:ext cx="83844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74040" y="298296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32480" y="48769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Merged Patient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3640" y="1311120"/>
            <a:ext cx="1843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880" y="1281240"/>
            <a:ext cx="510480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http:URIForPati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type DCM: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name “Mr. 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systolicBP DCM:systolicBP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systolicBP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typ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units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key   “SnomedCodeForSystolic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_1 _:SystolicBPMeasuremen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_2 _:SystolicBPMeasuremen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1 DCM:recordingTime 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1 DCM:magnitude 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2 DCM:recordingTime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2 DCM:magnitude 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Multiple ways of saying the same thing!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3760" y="1295280"/>
            <a:ext cx="17352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 Time = 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Weight = 7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WeightType = “Dr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31360" y="1295280"/>
            <a:ext cx="17352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 Time = 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DryWeight = 7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89120" y="4165560"/>
            <a:ext cx="48747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Assert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ryWeight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Weight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type value “Dr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he OWL Ontology Engine will infer the 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24480" y="3024360"/>
            <a:ext cx="47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these two weight measurements compar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18288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recise Protocol Specif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phylactic Irradiation to the Contralateral Breast for BRCA Mutation Carriers Undergoing Treatment for Breast Canc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clinicaltrials.gov/ct/show/NCT00496288?order=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ges Eligible for Study:  30 Years   -   90 Years, Genders Eligible for Study:  Fem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clusion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emale patient diagnosed with stage I-III breast cancer (AJCC 6), undergoing breast irradiation as part of her adjuvant therap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atient must be a carrier of a deleterious mutation in BRCA 1/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xclusion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etastatic breast cancer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evious irradiation of the breast or chest wall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egnanc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atients with active connective tissue diseases are excluded due to the potential risk of significant radiotherapy toxicit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recise Protocol Specif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Ag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at[&gt;=30, &lt;=6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Gender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Fema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Diagnosi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geI-IIIBreastCan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Therap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st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Mut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utation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leterious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tationGen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CA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Diagnosi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reastCancer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th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cer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stati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sTherap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radiatio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Loc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hest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stWal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Condi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Diseas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isease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Loc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nectiveTiss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v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Times New Roman"/>
              </a:rPr>
              <a:t>Focus of Next Talk by Chintan Pat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pproximate Match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bsumption reasoning helps match patients against BreastIrradiationTherapy and it’s subclasses as opposed to a String match with “BreastIrradiationTherapy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ystematic query weakening by dropping logical conditions can be used to identify more patients who can later be filtered based on further testing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y ways of stating the same thing”: Infer eligibility based on patient data that doesn’t explicitly assert data satisfying a logical cond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Identify Patients in the absence of explicit data about a clinical condi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74480" y="1295280"/>
            <a:ext cx="18115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ease = Hema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8480" y="1295280"/>
            <a:ext cx="2503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pereosinophily =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sytosis =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ood Lymphocytes = ATyp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89120" y="4165560"/>
            <a:ext cx="394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Times New Roman"/>
              </a:rPr>
              <a:t>Assert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tientWithHematologyDis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hypereosinophil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[&gt;1.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lymphosytosi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 [&gt; 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bloodLymphocyte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A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he OWL Ontology Engine will infer the 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24120" y="3024360"/>
            <a:ext cx="53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of these two patients have Hematology Dis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18288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care and Life Sciences (HCLS): A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S Ecosystem: Current and Goal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 and Function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le of Seman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 and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able Protoco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ing Attr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ritical Need to Align Data, Information and Knowledge across the HCLS Eco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nical Observations Interoperability is a critical enab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eed fo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sharable web based specifications an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itial Analysis seem to suggest the feasibility and applicability of Semantic Web technologi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ming Attractions!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tient Recruitment Use Case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chel Rich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pen Source Detailed Clinical Models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mo: Semantic DB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mezie Ogbu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mo: SHER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tan Pa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xt Step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re is a critical need to develop a collaborative framework of various stakeholders such as healthcare providers, pharmaceuticals and IT vendors to address this important probl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oal: To build consensus and seek participation (time, resources, money!) of these stakeholders to develop a POC that demonstrates feasibility and validates the value propo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ainstorming Session: 4:30pm – 5:30pm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ealthcare and Life Sciences: A Taxonom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8520" y="1788840"/>
            <a:ext cx="8122320" cy="4370040"/>
            <a:chOff x="308520" y="1788840"/>
            <a:chExt cx="8122320" cy="4370040"/>
          </a:xfrm>
        </p:grpSpPr>
        <p:sp>
          <p:nvSpPr>
            <p:cNvPr id="47" name=""/>
            <p:cNvSpPr/>
            <p:nvPr/>
          </p:nvSpPr>
          <p:spPr>
            <a:xfrm>
              <a:off x="4876920" y="2438280"/>
              <a:ext cx="1676160" cy="16002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20574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76520" y="525780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84360" y="52182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3080" y="533412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6280" y="54100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6760" y="4724280"/>
              <a:ext cx="91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8520" y="2286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434960" y="1788840"/>
              <a:ext cx="6274080" cy="4370040"/>
              <a:chOff x="1434960" y="1788840"/>
              <a:chExt cx="6274080" cy="4370040"/>
            </a:xfrm>
          </p:grpSpPr>
          <p:sp>
            <p:nvSpPr>
              <p:cNvPr id="56" name="_s559118"/>
              <p:cNvSpPr/>
              <p:nvPr/>
            </p:nvSpPr>
            <p:spPr>
              <a:xfrm>
                <a:off x="3724200" y="2382840"/>
                <a:ext cx="1697040" cy="1697040"/>
              </a:xfrm>
              <a:prstGeom prst="ellipse">
                <a:avLst/>
              </a:prstGeom>
              <a:solidFill>
                <a:srgbClr val="0000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_s559119"/>
              <p:cNvSpPr/>
              <p:nvPr/>
            </p:nvSpPr>
            <p:spPr>
              <a:xfrm>
                <a:off x="3724200" y="17888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medica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_s559120"/>
              <p:cNvSpPr/>
              <p:nvPr/>
            </p:nvSpPr>
            <p:spPr>
              <a:xfrm>
                <a:off x="4282920" y="3350880"/>
                <a:ext cx="1697040" cy="169704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_s559121"/>
              <p:cNvSpPr/>
              <p:nvPr/>
            </p:nvSpPr>
            <p:spPr>
              <a:xfrm>
                <a:off x="6012000" y="47066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inic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act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_s559122"/>
              <p:cNvSpPr/>
              <p:nvPr/>
            </p:nvSpPr>
            <p:spPr>
              <a:xfrm>
                <a:off x="3165480" y="3350880"/>
                <a:ext cx="1697040" cy="1697040"/>
              </a:xfrm>
              <a:prstGeom prst="ellipse">
                <a:avLst/>
              </a:prstGeom>
              <a:solidFill>
                <a:srgbClr val="7777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_s559123"/>
              <p:cNvSpPr/>
              <p:nvPr/>
            </p:nvSpPr>
            <p:spPr>
              <a:xfrm>
                <a:off x="1434960" y="47066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inic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61080" y="5638680"/>
                <a:ext cx="12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rsonaliz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dic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902960" y="2514600"/>
              <a:ext cx="129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l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2666880" y="297144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0" y="38098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06840" y="2220840"/>
              <a:ext cx="13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Heal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1800" y="3048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181480" y="320040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676520" y="24382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63868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CLS Ecosystem: Current St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4311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696080" y="5302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10720" y="324468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3352680" y="43866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in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rganizations (C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7080" y="3854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800600" y="2558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5120" y="24066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0680" y="2482920"/>
            <a:ext cx="1796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tional Instit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3280" y="370188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499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5560" y="4448160"/>
            <a:ext cx="1831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ademic 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s (AM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092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3092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0" y="1263600"/>
            <a:ext cx="54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acterized by silos with uncoord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ly chains leading to inefficiencies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9440" y="3092400"/>
            <a:ext cx="1081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010280" y="3930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482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37240" y="490536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0640" y="492120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8520" y="393048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20960" y="598788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11840" y="1873080"/>
            <a:ext cx="9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6000" y="58356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73200" y="21780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1797120"/>
            <a:ext cx="236232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711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949400"/>
            <a:ext cx="23619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254320"/>
            <a:ext cx="27432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560" y="55306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omed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5280" y="63691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Trials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1640" y="64450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imes New Roman"/>
              </a:rPr>
              <a:t>HCLS Ecosystem: Goal State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4760" y="3292560"/>
            <a:ext cx="158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3673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10200" y="435924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23240" y="435924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8840" y="542592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943600" y="473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9720" y="1311120"/>
            <a:ext cx="619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9000" y="4343400"/>
            <a:ext cx="73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511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3520" y="253044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57600" y="31395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1463760"/>
            <a:ext cx="1752840" cy="2819160"/>
          </a:xfrm>
          <a:custGeom>
            <a:avLst/>
            <a:gdLst/>
            <a:ahLst/>
            <a:rect l="l" t="t" r="r" b="b"/>
            <a:pathLst>
              <a:path w="1104" h="1776">
                <a:moveTo>
                  <a:pt x="0" y="1776"/>
                </a:moveTo>
                <a:cubicBezTo>
                  <a:pt x="348" y="1680"/>
                  <a:pt x="696" y="1584"/>
                  <a:pt x="864" y="1344"/>
                </a:cubicBezTo>
                <a:cubicBezTo>
                  <a:pt x="1032" y="1104"/>
                  <a:pt x="1104" y="560"/>
                  <a:pt x="1008" y="336"/>
                </a:cubicBezTo>
                <a:cubicBezTo>
                  <a:pt x="912" y="112"/>
                  <a:pt x="600" y="5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616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20920" y="131112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4637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62520" y="1616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616040"/>
            <a:ext cx="1676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0040" y="1235160"/>
            <a:ext cx="1183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Rese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5400" y="2606760"/>
            <a:ext cx="128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M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28800" y="184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71440" y="14637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911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3139920"/>
            <a:ext cx="137160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33920" y="344484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169236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216240"/>
            <a:ext cx="106704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00440" y="55627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4880" y="53942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FDA, 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200" y="5791320"/>
            <a:ext cx="649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linical Observations Interoperability will be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ritical Enabler to realize this Vi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s and Functional Requirement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4065" r="26875" b="46875"/>
          <a:stretch/>
        </p:blipFill>
        <p:spPr>
          <a:xfrm>
            <a:off x="0" y="1066680"/>
            <a:ext cx="8915400" cy="381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2920" y="5105520"/>
            <a:ext cx="882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dentifies the Use Cases, Systems and Functional Requirement under consider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e Functional Requirements Specification developed  by EHRVA/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at 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spreadsheets.google.com/ccc?key=pINNryLt_vyDiPyHj11WiDg&amp;hl=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Google Spread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: Patient Screen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3120" y="685800"/>
            <a:ext cx="7543800" cy="5646600"/>
            <a:chOff x="303120" y="685800"/>
            <a:chExt cx="7543800" cy="5646600"/>
          </a:xfrm>
        </p:grpSpPr>
        <p:sp>
          <p:nvSpPr>
            <p:cNvPr id="138" name=""/>
            <p:cNvSpPr/>
            <p:nvPr/>
          </p:nvSpPr>
          <p:spPr>
            <a:xfrm>
              <a:off x="303120" y="685800"/>
              <a:ext cx="7543800" cy="564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824280" y="1251000"/>
              <a:ext cx="1508040" cy="627120"/>
              <a:chOff x="3824280" y="1251000"/>
              <a:chExt cx="1508040" cy="627120"/>
            </a:xfrm>
          </p:grpSpPr>
          <p:sp>
            <p:nvSpPr>
              <p:cNvPr id="140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908160" y="13050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09960" y="1413000"/>
              <a:ext cx="351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85080" y="13050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7960" y="1413000"/>
              <a:ext cx="412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3920" y="13050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27520" y="1413000"/>
              <a:ext cx="378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03840" y="1433520"/>
              <a:ext cx="79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ligibility Criteri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5040" y="155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25160" y="15555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5040" y="168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24080" y="168120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881440" y="2379600"/>
              <a:ext cx="3646440" cy="1138320"/>
              <a:chOff x="2881440" y="2379600"/>
              <a:chExt cx="3646440" cy="11383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881440" y="2379600"/>
                <a:ext cx="3646440" cy="1138320"/>
                <a:chOff x="2881440" y="2379600"/>
                <a:chExt cx="3646440" cy="11383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249800" y="2587680"/>
                <a:ext cx="89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MR DAT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1328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97880" y="2886120"/>
                <a:ext cx="37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56120" y="2827440"/>
                <a:ext cx="1068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38920" y="288612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3384720" y="3141720"/>
                <a:ext cx="1193760" cy="271440"/>
                <a:chOff x="3384720" y="3141720"/>
                <a:chExt cx="1193760" cy="271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3466800" y="3200400"/>
                <a:ext cx="72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agno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95720" y="2513160"/>
                <a:ext cx="87948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03760" y="3141720"/>
                <a:ext cx="132084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87640" y="3200400"/>
                <a:ext cx="985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mograp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86520" y="2827440"/>
                <a:ext cx="252360" cy="34740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57960" y="2513160"/>
                <a:ext cx="88092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0672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870120" y="488952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0" y="178"/>
                  </a:moveTo>
                  <a:lnTo>
                    <a:pt x="49" y="178"/>
                  </a:lnTo>
                  <a:lnTo>
                    <a:pt x="49" y="0"/>
                  </a:lnTo>
                  <a:lnTo>
                    <a:pt x="148" y="0"/>
                  </a:lnTo>
                  <a:lnTo>
                    <a:pt x="148" y="178"/>
                  </a:lnTo>
                  <a:lnTo>
                    <a:pt x="198" y="178"/>
                  </a:lnTo>
                  <a:lnTo>
                    <a:pt x="99" y="237"/>
                  </a:lnTo>
                  <a:lnTo>
                    <a:pt x="0" y="17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03440" y="4137120"/>
              <a:ext cx="5154840" cy="1952640"/>
              <a:chOff x="2503440" y="4137120"/>
              <a:chExt cx="5154840" cy="1952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421400" y="55594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76200" y="556092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423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107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63400" y="556092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63400" y="568656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71400" y="556092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03440" y="551484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83360" y="556092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3333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214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7692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4344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1148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63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71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03440" y="5840280"/>
                <a:ext cx="792360" cy="249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812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67584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7584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7692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7476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7692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692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7692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421400" y="52322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421400" y="49068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21400" y="41814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42720" y="52354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1076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63400" y="5235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63400" y="5361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71760" y="5235480"/>
                <a:ext cx="159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03440" y="518940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83360" y="523548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222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4236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43440" y="4183200"/>
                <a:ext cx="62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Criteria #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4128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34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434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434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10760" y="4911840"/>
                <a:ext cx="25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63400" y="491184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63400" y="5037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71400" y="491184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03440" y="486396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83360" y="491184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111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1184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932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118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118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118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63400" y="4183200"/>
                <a:ext cx="44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#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62680" y="43084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 / Tot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63040" y="4433760"/>
                <a:ext cx="46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i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63760" y="45594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0680" y="4183200"/>
                <a:ext cx="50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tentiall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71040" y="4308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igible fo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71400" y="443376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03440" y="4137120"/>
                <a:ext cx="792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0480" y="4183200"/>
                <a:ext cx="59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tient MR #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3440" y="413712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03440" y="486396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03440" y="518940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03440" y="608976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0344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9580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892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340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674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5828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0096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03440" y="551484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436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03440" y="584028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09480" y="928800"/>
              <a:ext cx="2027520" cy="633240"/>
            </a:xfrm>
            <a:custGeom>
              <a:avLst/>
              <a:gdLst/>
              <a:ahLst/>
              <a:rect l="l" t="t" r="r" b="b"/>
              <a:pathLst>
                <a:path w="1277" h="399">
                  <a:moveTo>
                    <a:pt x="1272" y="10"/>
                  </a:moveTo>
                  <a:lnTo>
                    <a:pt x="1193" y="10"/>
                  </a:lnTo>
                  <a:lnTo>
                    <a:pt x="1193" y="0"/>
                  </a:lnTo>
                  <a:lnTo>
                    <a:pt x="1272" y="0"/>
                  </a:lnTo>
                  <a:lnTo>
                    <a:pt x="1272" y="10"/>
                  </a:lnTo>
                  <a:close/>
                  <a:moveTo>
                    <a:pt x="1164" y="10"/>
                  </a:moveTo>
                  <a:lnTo>
                    <a:pt x="1084" y="10"/>
                  </a:lnTo>
                  <a:lnTo>
                    <a:pt x="1084" y="0"/>
                  </a:lnTo>
                  <a:lnTo>
                    <a:pt x="1164" y="0"/>
                  </a:lnTo>
                  <a:lnTo>
                    <a:pt x="1164" y="10"/>
                  </a:lnTo>
                  <a:close/>
                  <a:moveTo>
                    <a:pt x="1055" y="10"/>
                  </a:moveTo>
                  <a:lnTo>
                    <a:pt x="975" y="10"/>
                  </a:lnTo>
                  <a:lnTo>
                    <a:pt x="975" y="0"/>
                  </a:lnTo>
                  <a:lnTo>
                    <a:pt x="1055" y="0"/>
                  </a:lnTo>
                  <a:lnTo>
                    <a:pt x="1055" y="10"/>
                  </a:lnTo>
                  <a:close/>
                  <a:moveTo>
                    <a:pt x="946" y="10"/>
                  </a:moveTo>
                  <a:lnTo>
                    <a:pt x="867" y="10"/>
                  </a:lnTo>
                  <a:lnTo>
                    <a:pt x="867" y="0"/>
                  </a:lnTo>
                  <a:lnTo>
                    <a:pt x="946" y="0"/>
                  </a:lnTo>
                  <a:lnTo>
                    <a:pt x="946" y="10"/>
                  </a:lnTo>
                  <a:close/>
                  <a:moveTo>
                    <a:pt x="837" y="10"/>
                  </a:moveTo>
                  <a:lnTo>
                    <a:pt x="758" y="10"/>
                  </a:lnTo>
                  <a:lnTo>
                    <a:pt x="758" y="0"/>
                  </a:lnTo>
                  <a:lnTo>
                    <a:pt x="837" y="0"/>
                  </a:lnTo>
                  <a:lnTo>
                    <a:pt x="837" y="10"/>
                  </a:lnTo>
                  <a:close/>
                  <a:moveTo>
                    <a:pt x="728" y="10"/>
                  </a:moveTo>
                  <a:lnTo>
                    <a:pt x="649" y="10"/>
                  </a:lnTo>
                  <a:lnTo>
                    <a:pt x="649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40" y="10"/>
                  </a:lnTo>
                  <a:lnTo>
                    <a:pt x="540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5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4"/>
                  </a:moveTo>
                  <a:lnTo>
                    <a:pt x="10" y="233"/>
                  </a:lnTo>
                  <a:lnTo>
                    <a:pt x="0" y="233"/>
                  </a:lnTo>
                  <a:lnTo>
                    <a:pt x="0" y="154"/>
                  </a:lnTo>
                  <a:lnTo>
                    <a:pt x="10" y="154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8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8" y="399"/>
                  </a:lnTo>
                  <a:lnTo>
                    <a:pt x="418" y="389"/>
                  </a:lnTo>
                  <a:close/>
                  <a:moveTo>
                    <a:pt x="527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7" y="399"/>
                  </a:lnTo>
                  <a:lnTo>
                    <a:pt x="527" y="389"/>
                  </a:lnTo>
                  <a:close/>
                  <a:moveTo>
                    <a:pt x="636" y="389"/>
                  </a:moveTo>
                  <a:lnTo>
                    <a:pt x="715" y="389"/>
                  </a:lnTo>
                  <a:lnTo>
                    <a:pt x="715" y="399"/>
                  </a:lnTo>
                  <a:lnTo>
                    <a:pt x="636" y="399"/>
                  </a:lnTo>
                  <a:lnTo>
                    <a:pt x="636" y="389"/>
                  </a:lnTo>
                  <a:close/>
                  <a:moveTo>
                    <a:pt x="744" y="389"/>
                  </a:moveTo>
                  <a:lnTo>
                    <a:pt x="824" y="389"/>
                  </a:lnTo>
                  <a:lnTo>
                    <a:pt x="824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53" y="389"/>
                  </a:moveTo>
                  <a:lnTo>
                    <a:pt x="933" y="389"/>
                  </a:lnTo>
                  <a:lnTo>
                    <a:pt x="933" y="399"/>
                  </a:lnTo>
                  <a:lnTo>
                    <a:pt x="853" y="399"/>
                  </a:lnTo>
                  <a:lnTo>
                    <a:pt x="853" y="389"/>
                  </a:lnTo>
                  <a:close/>
                  <a:moveTo>
                    <a:pt x="962" y="389"/>
                  </a:moveTo>
                  <a:lnTo>
                    <a:pt x="1041" y="389"/>
                  </a:lnTo>
                  <a:lnTo>
                    <a:pt x="1041" y="399"/>
                  </a:lnTo>
                  <a:lnTo>
                    <a:pt x="962" y="399"/>
                  </a:lnTo>
                  <a:lnTo>
                    <a:pt x="962" y="389"/>
                  </a:lnTo>
                  <a:close/>
                  <a:moveTo>
                    <a:pt x="1071" y="389"/>
                  </a:moveTo>
                  <a:lnTo>
                    <a:pt x="1150" y="389"/>
                  </a:lnTo>
                  <a:lnTo>
                    <a:pt x="1150" y="399"/>
                  </a:lnTo>
                  <a:lnTo>
                    <a:pt x="1071" y="399"/>
                  </a:lnTo>
                  <a:lnTo>
                    <a:pt x="1071" y="389"/>
                  </a:lnTo>
                  <a:close/>
                  <a:moveTo>
                    <a:pt x="1180" y="389"/>
                  </a:moveTo>
                  <a:lnTo>
                    <a:pt x="1259" y="389"/>
                  </a:lnTo>
                  <a:lnTo>
                    <a:pt x="1259" y="399"/>
                  </a:lnTo>
                  <a:lnTo>
                    <a:pt x="1180" y="399"/>
                  </a:lnTo>
                  <a:lnTo>
                    <a:pt x="1180" y="389"/>
                  </a:lnTo>
                  <a:close/>
                  <a:moveTo>
                    <a:pt x="1267" y="378"/>
                  </a:moveTo>
                  <a:lnTo>
                    <a:pt x="1267" y="298"/>
                  </a:lnTo>
                  <a:lnTo>
                    <a:pt x="1277" y="298"/>
                  </a:lnTo>
                  <a:lnTo>
                    <a:pt x="1277" y="378"/>
                  </a:lnTo>
                  <a:lnTo>
                    <a:pt x="1267" y="378"/>
                  </a:lnTo>
                  <a:close/>
                  <a:moveTo>
                    <a:pt x="1267" y="269"/>
                  </a:moveTo>
                  <a:lnTo>
                    <a:pt x="1267" y="190"/>
                  </a:lnTo>
                  <a:lnTo>
                    <a:pt x="1277" y="190"/>
                  </a:lnTo>
                  <a:lnTo>
                    <a:pt x="1277" y="269"/>
                  </a:lnTo>
                  <a:lnTo>
                    <a:pt x="1267" y="269"/>
                  </a:lnTo>
                  <a:close/>
                  <a:moveTo>
                    <a:pt x="1267" y="160"/>
                  </a:moveTo>
                  <a:lnTo>
                    <a:pt x="1267" y="81"/>
                  </a:lnTo>
                  <a:lnTo>
                    <a:pt x="1277" y="81"/>
                  </a:lnTo>
                  <a:lnTo>
                    <a:pt x="1277" y="160"/>
                  </a:lnTo>
                  <a:lnTo>
                    <a:pt x="1267" y="160"/>
                  </a:lnTo>
                  <a:close/>
                  <a:moveTo>
                    <a:pt x="1267" y="51"/>
                  </a:moveTo>
                  <a:lnTo>
                    <a:pt x="1267" y="5"/>
                  </a:lnTo>
                  <a:lnTo>
                    <a:pt x="1277" y="5"/>
                  </a:lnTo>
                  <a:lnTo>
                    <a:pt x="1277" y="51"/>
                  </a:lnTo>
                  <a:lnTo>
                    <a:pt x="12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240" y="99360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880" y="11700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protocol for pat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760" y="13446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24040" y="1407960"/>
              <a:ext cx="1200240" cy="61920"/>
            </a:xfrm>
            <a:custGeom>
              <a:avLst/>
              <a:gdLst/>
              <a:ahLst/>
              <a:rect l="l" t="t" r="r" b="b"/>
              <a:pathLst>
                <a:path w="7633" h="400">
                  <a:moveTo>
                    <a:pt x="33" y="167"/>
                  </a:moveTo>
                  <a:lnTo>
                    <a:pt x="500" y="167"/>
                  </a:lnTo>
                  <a:cubicBezTo>
                    <a:pt x="519" y="167"/>
                    <a:pt x="533" y="182"/>
                    <a:pt x="533" y="200"/>
                  </a:cubicBezTo>
                  <a:cubicBezTo>
                    <a:pt x="533" y="219"/>
                    <a:pt x="519" y="234"/>
                    <a:pt x="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767" y="167"/>
                  </a:moveTo>
                  <a:lnTo>
                    <a:pt x="1233" y="167"/>
                  </a:lnTo>
                  <a:cubicBezTo>
                    <a:pt x="1252" y="167"/>
                    <a:pt x="1267" y="182"/>
                    <a:pt x="1267" y="200"/>
                  </a:cubicBezTo>
                  <a:cubicBezTo>
                    <a:pt x="1267" y="219"/>
                    <a:pt x="1252" y="234"/>
                    <a:pt x="1233" y="234"/>
                  </a:cubicBezTo>
                  <a:lnTo>
                    <a:pt x="767" y="234"/>
                  </a:lnTo>
                  <a:cubicBezTo>
                    <a:pt x="748" y="234"/>
                    <a:pt x="733" y="219"/>
                    <a:pt x="733" y="200"/>
                  </a:cubicBezTo>
                  <a:cubicBezTo>
                    <a:pt x="733" y="182"/>
                    <a:pt x="748" y="167"/>
                    <a:pt x="767" y="167"/>
                  </a:cubicBezTo>
                  <a:close/>
                  <a:moveTo>
                    <a:pt x="1500" y="167"/>
                  </a:moveTo>
                  <a:lnTo>
                    <a:pt x="1967" y="167"/>
                  </a:lnTo>
                  <a:cubicBezTo>
                    <a:pt x="1985" y="167"/>
                    <a:pt x="2000" y="182"/>
                    <a:pt x="2000" y="200"/>
                  </a:cubicBezTo>
                  <a:cubicBezTo>
                    <a:pt x="2000" y="219"/>
                    <a:pt x="1985" y="234"/>
                    <a:pt x="1967" y="234"/>
                  </a:cubicBezTo>
                  <a:lnTo>
                    <a:pt x="1500" y="234"/>
                  </a:lnTo>
                  <a:cubicBezTo>
                    <a:pt x="1482" y="234"/>
                    <a:pt x="1467" y="219"/>
                    <a:pt x="1467" y="200"/>
                  </a:cubicBezTo>
                  <a:cubicBezTo>
                    <a:pt x="1467" y="182"/>
                    <a:pt x="1482" y="167"/>
                    <a:pt x="1500" y="167"/>
                  </a:cubicBezTo>
                  <a:close/>
                  <a:moveTo>
                    <a:pt x="2233" y="167"/>
                  </a:moveTo>
                  <a:lnTo>
                    <a:pt x="2700" y="167"/>
                  </a:lnTo>
                  <a:cubicBezTo>
                    <a:pt x="2719" y="167"/>
                    <a:pt x="2733" y="182"/>
                    <a:pt x="2733" y="200"/>
                  </a:cubicBezTo>
                  <a:cubicBezTo>
                    <a:pt x="2733" y="219"/>
                    <a:pt x="2719" y="234"/>
                    <a:pt x="2700" y="234"/>
                  </a:cubicBezTo>
                  <a:lnTo>
                    <a:pt x="2233" y="234"/>
                  </a:lnTo>
                  <a:cubicBezTo>
                    <a:pt x="2215" y="234"/>
                    <a:pt x="2200" y="219"/>
                    <a:pt x="2200" y="200"/>
                  </a:cubicBezTo>
                  <a:cubicBezTo>
                    <a:pt x="2200" y="182"/>
                    <a:pt x="2215" y="167"/>
                    <a:pt x="2233" y="167"/>
                  </a:cubicBezTo>
                  <a:close/>
                  <a:moveTo>
                    <a:pt x="2967" y="167"/>
                  </a:moveTo>
                  <a:lnTo>
                    <a:pt x="3433" y="167"/>
                  </a:lnTo>
                  <a:cubicBezTo>
                    <a:pt x="3452" y="167"/>
                    <a:pt x="3467" y="182"/>
                    <a:pt x="3467" y="200"/>
                  </a:cubicBezTo>
                  <a:cubicBezTo>
                    <a:pt x="3467" y="219"/>
                    <a:pt x="3452" y="234"/>
                    <a:pt x="3433" y="234"/>
                  </a:cubicBezTo>
                  <a:lnTo>
                    <a:pt x="2967" y="234"/>
                  </a:lnTo>
                  <a:cubicBezTo>
                    <a:pt x="2948" y="234"/>
                    <a:pt x="2933" y="219"/>
                    <a:pt x="2933" y="200"/>
                  </a:cubicBezTo>
                  <a:cubicBezTo>
                    <a:pt x="2933" y="182"/>
                    <a:pt x="2948" y="167"/>
                    <a:pt x="2967" y="167"/>
                  </a:cubicBezTo>
                  <a:close/>
                  <a:moveTo>
                    <a:pt x="3700" y="167"/>
                  </a:moveTo>
                  <a:lnTo>
                    <a:pt x="4167" y="167"/>
                  </a:lnTo>
                  <a:cubicBezTo>
                    <a:pt x="4185" y="167"/>
                    <a:pt x="4200" y="182"/>
                    <a:pt x="4200" y="200"/>
                  </a:cubicBezTo>
                  <a:cubicBezTo>
                    <a:pt x="4200" y="219"/>
                    <a:pt x="4185" y="234"/>
                    <a:pt x="4167" y="234"/>
                  </a:cubicBezTo>
                  <a:lnTo>
                    <a:pt x="3700" y="234"/>
                  </a:lnTo>
                  <a:cubicBezTo>
                    <a:pt x="3682" y="234"/>
                    <a:pt x="3667" y="219"/>
                    <a:pt x="3667" y="200"/>
                  </a:cubicBezTo>
                  <a:cubicBezTo>
                    <a:pt x="3667" y="182"/>
                    <a:pt x="3682" y="167"/>
                    <a:pt x="3700" y="167"/>
                  </a:cubicBezTo>
                  <a:close/>
                  <a:moveTo>
                    <a:pt x="4433" y="167"/>
                  </a:moveTo>
                  <a:lnTo>
                    <a:pt x="4900" y="167"/>
                  </a:lnTo>
                  <a:cubicBezTo>
                    <a:pt x="4919" y="167"/>
                    <a:pt x="4933" y="182"/>
                    <a:pt x="4933" y="200"/>
                  </a:cubicBezTo>
                  <a:cubicBezTo>
                    <a:pt x="4933" y="219"/>
                    <a:pt x="4919" y="234"/>
                    <a:pt x="4900" y="234"/>
                  </a:cubicBezTo>
                  <a:lnTo>
                    <a:pt x="4433" y="234"/>
                  </a:lnTo>
                  <a:cubicBezTo>
                    <a:pt x="4415" y="234"/>
                    <a:pt x="4400" y="219"/>
                    <a:pt x="4400" y="200"/>
                  </a:cubicBezTo>
                  <a:cubicBezTo>
                    <a:pt x="4400" y="182"/>
                    <a:pt x="4415" y="167"/>
                    <a:pt x="4433" y="167"/>
                  </a:cubicBezTo>
                  <a:close/>
                  <a:moveTo>
                    <a:pt x="5167" y="167"/>
                  </a:moveTo>
                  <a:lnTo>
                    <a:pt x="5633" y="167"/>
                  </a:lnTo>
                  <a:cubicBezTo>
                    <a:pt x="5652" y="167"/>
                    <a:pt x="5667" y="182"/>
                    <a:pt x="5667" y="200"/>
                  </a:cubicBezTo>
                  <a:cubicBezTo>
                    <a:pt x="5667" y="219"/>
                    <a:pt x="5652" y="234"/>
                    <a:pt x="5633" y="234"/>
                  </a:cubicBezTo>
                  <a:lnTo>
                    <a:pt x="5167" y="234"/>
                  </a:lnTo>
                  <a:cubicBezTo>
                    <a:pt x="5148" y="234"/>
                    <a:pt x="5133" y="219"/>
                    <a:pt x="5133" y="200"/>
                  </a:cubicBezTo>
                  <a:cubicBezTo>
                    <a:pt x="5133" y="182"/>
                    <a:pt x="5148" y="167"/>
                    <a:pt x="5167" y="167"/>
                  </a:cubicBezTo>
                  <a:close/>
                  <a:moveTo>
                    <a:pt x="5900" y="167"/>
                  </a:moveTo>
                  <a:lnTo>
                    <a:pt x="6367" y="167"/>
                  </a:lnTo>
                  <a:cubicBezTo>
                    <a:pt x="6385" y="167"/>
                    <a:pt x="6400" y="182"/>
                    <a:pt x="6400" y="200"/>
                  </a:cubicBezTo>
                  <a:cubicBezTo>
                    <a:pt x="6400" y="219"/>
                    <a:pt x="6385" y="234"/>
                    <a:pt x="6367" y="234"/>
                  </a:cubicBezTo>
                  <a:lnTo>
                    <a:pt x="5900" y="234"/>
                  </a:lnTo>
                  <a:cubicBezTo>
                    <a:pt x="5882" y="234"/>
                    <a:pt x="5867" y="219"/>
                    <a:pt x="5867" y="200"/>
                  </a:cubicBezTo>
                  <a:cubicBezTo>
                    <a:pt x="5867" y="182"/>
                    <a:pt x="5882" y="167"/>
                    <a:pt x="5900" y="167"/>
                  </a:cubicBezTo>
                  <a:close/>
                  <a:moveTo>
                    <a:pt x="6633" y="167"/>
                  </a:moveTo>
                  <a:lnTo>
                    <a:pt x="7100" y="167"/>
                  </a:lnTo>
                  <a:cubicBezTo>
                    <a:pt x="7119" y="167"/>
                    <a:pt x="7133" y="182"/>
                    <a:pt x="7133" y="200"/>
                  </a:cubicBezTo>
                  <a:cubicBezTo>
                    <a:pt x="7133" y="219"/>
                    <a:pt x="7119" y="234"/>
                    <a:pt x="7100" y="234"/>
                  </a:cubicBezTo>
                  <a:lnTo>
                    <a:pt x="6633" y="234"/>
                  </a:lnTo>
                  <a:cubicBezTo>
                    <a:pt x="6615" y="234"/>
                    <a:pt x="6600" y="219"/>
                    <a:pt x="6600" y="200"/>
                  </a:cubicBezTo>
                  <a:cubicBezTo>
                    <a:pt x="6600" y="182"/>
                    <a:pt x="6615" y="167"/>
                    <a:pt x="6633" y="167"/>
                  </a:cubicBezTo>
                  <a:close/>
                  <a:moveTo>
                    <a:pt x="7233" y="0"/>
                  </a:moveTo>
                  <a:lnTo>
                    <a:pt x="7633" y="200"/>
                  </a:lnTo>
                  <a:lnTo>
                    <a:pt x="7233" y="400"/>
                  </a:lnTo>
                  <a:lnTo>
                    <a:pt x="72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200" y="3062160"/>
              <a:ext cx="1334880" cy="1684440"/>
            </a:xfrm>
            <a:custGeom>
              <a:avLst/>
              <a:gdLst/>
              <a:ahLst/>
              <a:rect l="l" t="t" r="r" b="b"/>
              <a:pathLst>
                <a:path w="841" h="1061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450"/>
                  </a:lnTo>
                  <a:lnTo>
                    <a:pt x="0" y="450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10" y="479"/>
                  </a:moveTo>
                  <a:lnTo>
                    <a:pt x="10" y="558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10" y="479"/>
                  </a:lnTo>
                  <a:close/>
                  <a:moveTo>
                    <a:pt x="10" y="588"/>
                  </a:moveTo>
                  <a:lnTo>
                    <a:pt x="10" y="667"/>
                  </a:lnTo>
                  <a:lnTo>
                    <a:pt x="0" y="667"/>
                  </a:lnTo>
                  <a:lnTo>
                    <a:pt x="0" y="588"/>
                  </a:lnTo>
                  <a:lnTo>
                    <a:pt x="10" y="588"/>
                  </a:lnTo>
                  <a:close/>
                  <a:moveTo>
                    <a:pt x="10" y="697"/>
                  </a:moveTo>
                  <a:lnTo>
                    <a:pt x="10" y="776"/>
                  </a:lnTo>
                  <a:lnTo>
                    <a:pt x="0" y="776"/>
                  </a:lnTo>
                  <a:lnTo>
                    <a:pt x="0" y="697"/>
                  </a:lnTo>
                  <a:lnTo>
                    <a:pt x="10" y="697"/>
                  </a:lnTo>
                  <a:close/>
                  <a:moveTo>
                    <a:pt x="10" y="805"/>
                  </a:moveTo>
                  <a:lnTo>
                    <a:pt x="10" y="885"/>
                  </a:lnTo>
                  <a:lnTo>
                    <a:pt x="0" y="885"/>
                  </a:lnTo>
                  <a:lnTo>
                    <a:pt x="0" y="805"/>
                  </a:lnTo>
                  <a:lnTo>
                    <a:pt x="10" y="805"/>
                  </a:lnTo>
                  <a:close/>
                  <a:moveTo>
                    <a:pt x="10" y="914"/>
                  </a:moveTo>
                  <a:lnTo>
                    <a:pt x="10" y="993"/>
                  </a:lnTo>
                  <a:lnTo>
                    <a:pt x="0" y="993"/>
                  </a:lnTo>
                  <a:lnTo>
                    <a:pt x="0" y="914"/>
                  </a:lnTo>
                  <a:lnTo>
                    <a:pt x="10" y="914"/>
                  </a:lnTo>
                  <a:close/>
                  <a:moveTo>
                    <a:pt x="10" y="1023"/>
                  </a:moveTo>
                  <a:lnTo>
                    <a:pt x="10" y="1056"/>
                  </a:lnTo>
                  <a:lnTo>
                    <a:pt x="5" y="1051"/>
                  </a:lnTo>
                  <a:lnTo>
                    <a:pt x="51" y="1051"/>
                  </a:lnTo>
                  <a:lnTo>
                    <a:pt x="51" y="1061"/>
                  </a:lnTo>
                  <a:lnTo>
                    <a:pt x="0" y="1061"/>
                  </a:lnTo>
                  <a:lnTo>
                    <a:pt x="0" y="1023"/>
                  </a:lnTo>
                  <a:lnTo>
                    <a:pt x="10" y="1023"/>
                  </a:lnTo>
                  <a:close/>
                  <a:moveTo>
                    <a:pt x="81" y="1051"/>
                  </a:moveTo>
                  <a:lnTo>
                    <a:pt x="160" y="1051"/>
                  </a:lnTo>
                  <a:lnTo>
                    <a:pt x="160" y="1061"/>
                  </a:lnTo>
                  <a:lnTo>
                    <a:pt x="81" y="1061"/>
                  </a:lnTo>
                  <a:lnTo>
                    <a:pt x="81" y="1051"/>
                  </a:lnTo>
                  <a:close/>
                  <a:moveTo>
                    <a:pt x="190" y="1051"/>
                  </a:moveTo>
                  <a:lnTo>
                    <a:pt x="269" y="1051"/>
                  </a:lnTo>
                  <a:lnTo>
                    <a:pt x="269" y="1061"/>
                  </a:lnTo>
                  <a:lnTo>
                    <a:pt x="190" y="1061"/>
                  </a:lnTo>
                  <a:lnTo>
                    <a:pt x="190" y="1051"/>
                  </a:lnTo>
                  <a:close/>
                  <a:moveTo>
                    <a:pt x="299" y="1051"/>
                  </a:moveTo>
                  <a:lnTo>
                    <a:pt x="378" y="1051"/>
                  </a:lnTo>
                  <a:lnTo>
                    <a:pt x="378" y="1061"/>
                  </a:lnTo>
                  <a:lnTo>
                    <a:pt x="299" y="1061"/>
                  </a:lnTo>
                  <a:lnTo>
                    <a:pt x="299" y="1051"/>
                  </a:lnTo>
                  <a:close/>
                  <a:moveTo>
                    <a:pt x="407" y="1051"/>
                  </a:moveTo>
                  <a:lnTo>
                    <a:pt x="487" y="1051"/>
                  </a:lnTo>
                  <a:lnTo>
                    <a:pt x="487" y="1061"/>
                  </a:lnTo>
                  <a:lnTo>
                    <a:pt x="407" y="1061"/>
                  </a:lnTo>
                  <a:lnTo>
                    <a:pt x="407" y="1051"/>
                  </a:lnTo>
                  <a:close/>
                  <a:moveTo>
                    <a:pt x="516" y="1051"/>
                  </a:moveTo>
                  <a:lnTo>
                    <a:pt x="596" y="1051"/>
                  </a:lnTo>
                  <a:lnTo>
                    <a:pt x="596" y="1061"/>
                  </a:lnTo>
                  <a:lnTo>
                    <a:pt x="516" y="1061"/>
                  </a:lnTo>
                  <a:lnTo>
                    <a:pt x="516" y="1051"/>
                  </a:lnTo>
                  <a:close/>
                  <a:moveTo>
                    <a:pt x="625" y="1051"/>
                  </a:moveTo>
                  <a:lnTo>
                    <a:pt x="704" y="1051"/>
                  </a:lnTo>
                  <a:lnTo>
                    <a:pt x="704" y="1061"/>
                  </a:lnTo>
                  <a:lnTo>
                    <a:pt x="625" y="1061"/>
                  </a:lnTo>
                  <a:lnTo>
                    <a:pt x="625" y="1051"/>
                  </a:lnTo>
                  <a:close/>
                  <a:moveTo>
                    <a:pt x="734" y="1051"/>
                  </a:moveTo>
                  <a:lnTo>
                    <a:pt x="813" y="1051"/>
                  </a:lnTo>
                  <a:lnTo>
                    <a:pt x="813" y="1061"/>
                  </a:lnTo>
                  <a:lnTo>
                    <a:pt x="734" y="1061"/>
                  </a:lnTo>
                  <a:lnTo>
                    <a:pt x="734" y="1051"/>
                  </a:lnTo>
                  <a:close/>
                  <a:moveTo>
                    <a:pt x="831" y="1049"/>
                  </a:moveTo>
                  <a:lnTo>
                    <a:pt x="831" y="970"/>
                  </a:lnTo>
                  <a:lnTo>
                    <a:pt x="841" y="970"/>
                  </a:lnTo>
                  <a:lnTo>
                    <a:pt x="841" y="1049"/>
                  </a:lnTo>
                  <a:lnTo>
                    <a:pt x="831" y="1049"/>
                  </a:lnTo>
                  <a:close/>
                  <a:moveTo>
                    <a:pt x="831" y="941"/>
                  </a:moveTo>
                  <a:lnTo>
                    <a:pt x="831" y="862"/>
                  </a:lnTo>
                  <a:lnTo>
                    <a:pt x="841" y="862"/>
                  </a:lnTo>
                  <a:lnTo>
                    <a:pt x="841" y="941"/>
                  </a:lnTo>
                  <a:lnTo>
                    <a:pt x="831" y="941"/>
                  </a:lnTo>
                  <a:close/>
                  <a:moveTo>
                    <a:pt x="831" y="832"/>
                  </a:moveTo>
                  <a:lnTo>
                    <a:pt x="831" y="753"/>
                  </a:lnTo>
                  <a:lnTo>
                    <a:pt x="841" y="753"/>
                  </a:lnTo>
                  <a:lnTo>
                    <a:pt x="841" y="832"/>
                  </a:lnTo>
                  <a:lnTo>
                    <a:pt x="831" y="832"/>
                  </a:lnTo>
                  <a:close/>
                  <a:moveTo>
                    <a:pt x="831" y="723"/>
                  </a:moveTo>
                  <a:lnTo>
                    <a:pt x="831" y="644"/>
                  </a:lnTo>
                  <a:lnTo>
                    <a:pt x="841" y="644"/>
                  </a:lnTo>
                  <a:lnTo>
                    <a:pt x="841" y="723"/>
                  </a:lnTo>
                  <a:lnTo>
                    <a:pt x="831" y="723"/>
                  </a:lnTo>
                  <a:close/>
                  <a:moveTo>
                    <a:pt x="831" y="614"/>
                  </a:moveTo>
                  <a:lnTo>
                    <a:pt x="831" y="535"/>
                  </a:lnTo>
                  <a:lnTo>
                    <a:pt x="841" y="535"/>
                  </a:lnTo>
                  <a:lnTo>
                    <a:pt x="841" y="614"/>
                  </a:lnTo>
                  <a:lnTo>
                    <a:pt x="831" y="614"/>
                  </a:lnTo>
                  <a:close/>
                  <a:moveTo>
                    <a:pt x="831" y="506"/>
                  </a:moveTo>
                  <a:lnTo>
                    <a:pt x="831" y="427"/>
                  </a:lnTo>
                  <a:lnTo>
                    <a:pt x="841" y="427"/>
                  </a:lnTo>
                  <a:lnTo>
                    <a:pt x="841" y="506"/>
                  </a:lnTo>
                  <a:lnTo>
                    <a:pt x="831" y="506"/>
                  </a:lnTo>
                  <a:close/>
                  <a:moveTo>
                    <a:pt x="831" y="397"/>
                  </a:moveTo>
                  <a:lnTo>
                    <a:pt x="831" y="318"/>
                  </a:lnTo>
                  <a:lnTo>
                    <a:pt x="841" y="318"/>
                  </a:lnTo>
                  <a:lnTo>
                    <a:pt x="841" y="397"/>
                  </a:lnTo>
                  <a:lnTo>
                    <a:pt x="831" y="397"/>
                  </a:lnTo>
                  <a:close/>
                  <a:moveTo>
                    <a:pt x="831" y="288"/>
                  </a:moveTo>
                  <a:lnTo>
                    <a:pt x="831" y="209"/>
                  </a:lnTo>
                  <a:lnTo>
                    <a:pt x="841" y="209"/>
                  </a:lnTo>
                  <a:lnTo>
                    <a:pt x="841" y="288"/>
                  </a:lnTo>
                  <a:lnTo>
                    <a:pt x="831" y="288"/>
                  </a:lnTo>
                  <a:close/>
                  <a:moveTo>
                    <a:pt x="831" y="180"/>
                  </a:moveTo>
                  <a:lnTo>
                    <a:pt x="831" y="101"/>
                  </a:lnTo>
                  <a:lnTo>
                    <a:pt x="841" y="101"/>
                  </a:lnTo>
                  <a:lnTo>
                    <a:pt x="841" y="180"/>
                  </a:lnTo>
                  <a:lnTo>
                    <a:pt x="831" y="180"/>
                  </a:lnTo>
                  <a:close/>
                  <a:moveTo>
                    <a:pt x="831" y="7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71"/>
                  </a:lnTo>
                  <a:lnTo>
                    <a:pt x="831" y="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480" y="312732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1760" y="330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3560" y="3478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ews list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1040" y="365112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ients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480" y="382752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whi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9240" y="4003560"/>
              <a:ext cx="122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es to approa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417816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person f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600" y="435456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3560" y="45273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46440" y="1873080"/>
              <a:ext cx="63720" cy="444600"/>
            </a:xfrm>
            <a:custGeom>
              <a:avLst/>
              <a:gdLst/>
              <a:ahLst/>
              <a:rect l="l" t="t" r="r" b="b"/>
              <a:pathLst>
                <a:path w="400" h="2833">
                  <a:moveTo>
                    <a:pt x="234" y="33"/>
                  </a:moveTo>
                  <a:lnTo>
                    <a:pt x="234" y="2500"/>
                  </a:lnTo>
                  <a:cubicBezTo>
                    <a:pt x="234" y="2519"/>
                    <a:pt x="219" y="2533"/>
                    <a:pt x="200" y="2533"/>
                  </a:cubicBezTo>
                  <a:cubicBezTo>
                    <a:pt x="182" y="2533"/>
                    <a:pt x="167" y="2519"/>
                    <a:pt x="167" y="25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2433"/>
                  </a:moveTo>
                  <a:lnTo>
                    <a:pt x="200" y="2833"/>
                  </a:lnTo>
                  <a:lnTo>
                    <a:pt x="0" y="2433"/>
                  </a:lnTo>
                  <a:lnTo>
                    <a:pt x="400" y="24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00160" y="4419720"/>
              <a:ext cx="503280" cy="61920"/>
            </a:xfrm>
            <a:custGeom>
              <a:avLst/>
              <a:gdLst/>
              <a:ahLst/>
              <a:rect l="l" t="t" r="r" b="b"/>
              <a:pathLst>
                <a:path w="317" h="39">
                  <a:moveTo>
                    <a:pt x="317" y="24"/>
                  </a:moveTo>
                  <a:lnTo>
                    <a:pt x="251" y="24"/>
                  </a:lnTo>
                  <a:lnTo>
                    <a:pt x="251" y="16"/>
                  </a:lnTo>
                  <a:lnTo>
                    <a:pt x="317" y="16"/>
                  </a:lnTo>
                  <a:lnTo>
                    <a:pt x="317" y="24"/>
                  </a:lnTo>
                  <a:close/>
                  <a:moveTo>
                    <a:pt x="227" y="24"/>
                  </a:moveTo>
                  <a:lnTo>
                    <a:pt x="161" y="24"/>
                  </a:lnTo>
                  <a:lnTo>
                    <a:pt x="161" y="16"/>
                  </a:lnTo>
                  <a:lnTo>
                    <a:pt x="227" y="16"/>
                  </a:lnTo>
                  <a:lnTo>
                    <a:pt x="227" y="24"/>
                  </a:lnTo>
                  <a:close/>
                  <a:moveTo>
                    <a:pt x="136" y="24"/>
                  </a:moveTo>
                  <a:lnTo>
                    <a:pt x="70" y="24"/>
                  </a:lnTo>
                  <a:lnTo>
                    <a:pt x="70" y="16"/>
                  </a:lnTo>
                  <a:lnTo>
                    <a:pt x="136" y="16"/>
                  </a:lnTo>
                  <a:lnTo>
                    <a:pt x="136" y="24"/>
                  </a:lnTo>
                  <a:close/>
                  <a:moveTo>
                    <a:pt x="45" y="24"/>
                  </a:moveTo>
                  <a:lnTo>
                    <a:pt x="33" y="24"/>
                  </a:lnTo>
                  <a:lnTo>
                    <a:pt x="33" y="16"/>
                  </a:lnTo>
                  <a:lnTo>
                    <a:pt x="45" y="16"/>
                  </a:lnTo>
                  <a:lnTo>
                    <a:pt x="45" y="24"/>
                  </a:lnTo>
                  <a:close/>
                  <a:moveTo>
                    <a:pt x="40" y="39"/>
                  </a:moveTo>
                  <a:lnTo>
                    <a:pt x="0" y="20"/>
                  </a:lnTo>
                  <a:lnTo>
                    <a:pt x="40" y="0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10160" y="3505320"/>
              <a:ext cx="61920" cy="569880"/>
            </a:xfrm>
            <a:custGeom>
              <a:avLst/>
              <a:gdLst/>
              <a:ahLst/>
              <a:rect l="l" t="t" r="r" b="b"/>
              <a:pathLst>
                <a:path w="400" h="3633">
                  <a:moveTo>
                    <a:pt x="234" y="33"/>
                  </a:moveTo>
                  <a:lnTo>
                    <a:pt x="234" y="3300"/>
                  </a:lnTo>
                  <a:cubicBezTo>
                    <a:pt x="234" y="3319"/>
                    <a:pt x="219" y="3333"/>
                    <a:pt x="200" y="3333"/>
                  </a:cubicBezTo>
                  <a:cubicBezTo>
                    <a:pt x="182" y="3333"/>
                    <a:pt x="167" y="3319"/>
                    <a:pt x="167" y="33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3233"/>
                  </a:moveTo>
                  <a:lnTo>
                    <a:pt x="200" y="3633"/>
                  </a:lnTo>
                  <a:lnTo>
                    <a:pt x="0" y="3233"/>
                  </a:lnTo>
                  <a:lnTo>
                    <a:pt x="400" y="3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0120" y="1690560"/>
              <a:ext cx="250560" cy="1254240"/>
            </a:xfrm>
            <a:custGeom>
              <a:avLst/>
              <a:gdLst/>
              <a:ahLst/>
              <a:rect l="l" t="t" r="r" b="b"/>
              <a:pathLst>
                <a:path w="158" h="790">
                  <a:moveTo>
                    <a:pt x="0" y="592"/>
                  </a:moveTo>
                  <a:lnTo>
                    <a:pt x="39" y="592"/>
                  </a:lnTo>
                  <a:lnTo>
                    <a:pt x="39" y="0"/>
                  </a:lnTo>
                  <a:lnTo>
                    <a:pt x="118" y="0"/>
                  </a:lnTo>
                  <a:lnTo>
                    <a:pt x="118" y="592"/>
                  </a:lnTo>
                  <a:lnTo>
                    <a:pt x="158" y="592"/>
                  </a:lnTo>
                  <a:lnTo>
                    <a:pt x="79" y="790"/>
                  </a:lnTo>
                  <a:lnTo>
                    <a:pt x="0" y="59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200" y="5357880"/>
              <a:ext cx="1334880" cy="633240"/>
            </a:xfrm>
            <a:custGeom>
              <a:avLst/>
              <a:gdLst/>
              <a:ahLst/>
              <a:rect l="l" t="t" r="r" b="b"/>
              <a:pathLst>
                <a:path w="841" h="399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7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7" y="399"/>
                  </a:lnTo>
                  <a:lnTo>
                    <a:pt x="417" y="389"/>
                  </a:lnTo>
                  <a:close/>
                  <a:moveTo>
                    <a:pt x="526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6" y="399"/>
                  </a:lnTo>
                  <a:lnTo>
                    <a:pt x="526" y="389"/>
                  </a:lnTo>
                  <a:close/>
                  <a:moveTo>
                    <a:pt x="635" y="389"/>
                  </a:moveTo>
                  <a:lnTo>
                    <a:pt x="714" y="389"/>
                  </a:lnTo>
                  <a:lnTo>
                    <a:pt x="714" y="399"/>
                  </a:lnTo>
                  <a:lnTo>
                    <a:pt x="635" y="399"/>
                  </a:lnTo>
                  <a:lnTo>
                    <a:pt x="635" y="389"/>
                  </a:lnTo>
                  <a:close/>
                  <a:moveTo>
                    <a:pt x="744" y="389"/>
                  </a:moveTo>
                  <a:lnTo>
                    <a:pt x="823" y="389"/>
                  </a:lnTo>
                  <a:lnTo>
                    <a:pt x="823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31" y="377"/>
                  </a:moveTo>
                  <a:lnTo>
                    <a:pt x="831" y="298"/>
                  </a:lnTo>
                  <a:lnTo>
                    <a:pt x="841" y="298"/>
                  </a:lnTo>
                  <a:lnTo>
                    <a:pt x="841" y="377"/>
                  </a:lnTo>
                  <a:lnTo>
                    <a:pt x="831" y="377"/>
                  </a:lnTo>
                  <a:close/>
                  <a:moveTo>
                    <a:pt x="831" y="269"/>
                  </a:moveTo>
                  <a:lnTo>
                    <a:pt x="831" y="189"/>
                  </a:lnTo>
                  <a:lnTo>
                    <a:pt x="841" y="189"/>
                  </a:lnTo>
                  <a:lnTo>
                    <a:pt x="841" y="269"/>
                  </a:lnTo>
                  <a:lnTo>
                    <a:pt x="831" y="269"/>
                  </a:lnTo>
                  <a:close/>
                  <a:moveTo>
                    <a:pt x="831" y="160"/>
                  </a:moveTo>
                  <a:lnTo>
                    <a:pt x="831" y="81"/>
                  </a:lnTo>
                  <a:lnTo>
                    <a:pt x="841" y="81"/>
                  </a:lnTo>
                  <a:lnTo>
                    <a:pt x="841" y="160"/>
                  </a:lnTo>
                  <a:lnTo>
                    <a:pt x="831" y="160"/>
                  </a:lnTo>
                  <a:close/>
                  <a:moveTo>
                    <a:pt x="831" y="5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51"/>
                  </a:lnTo>
                  <a:lnTo>
                    <a:pt x="831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00" y="54230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9600" y="5597640"/>
              <a:ext cx="105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840" y="57722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56680" y="73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690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5000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5808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56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6720" y="6264360"/>
            <a:ext cx="584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Focus of Next Talk by Rachel Rich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Role of Semantic Web Technologies: Example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Cont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, Generalized and Extensibl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able Open Source Models of Clin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Exchange and Interoperabil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use and alignment of independently developed Indust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Ways of saying the same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putable Protocol Specific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and Unambiguou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identify relevant patients in the absence of explicit data about a clinical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recise, Generalized and Extensible Specification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720" y="1066680"/>
            <a:ext cx="703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ystolic Blood Pressure measurement is a pressur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has a value from 0 to 220 and units are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15720" y="1828800"/>
            <a:ext cx="4760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linical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ke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“SnomedCodeForSystolicB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gnitud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loat[&gt;= 0.0, &lt;= 220.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unit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6080" y="3886200"/>
            <a:ext cx="70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tting Systolic Blood Pressure Measurement is a systolic bl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measurement taken when a patient is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67640" y="4876920"/>
            <a:ext cx="45514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itting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bodyPosi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rtners Information Systems</cp:lastModifiedBy>
  <dcterms:modified xsi:type="dcterms:W3CDTF">2007-11-08T13:41:16Z</dcterms:modified>
  <cp:revision>3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